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2C3-739D-47BC-BF5F-06747E55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886-07D0-44ED-9AB3-AA6EEE4E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A23-13B7-484F-ABE5-23C1472F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856F-AFA9-4519-9AD8-7AD574DF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AB9-AA26-4580-B382-47370987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17F-7405-4E65-A0E6-1A84B1F2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3E6-1D52-4E4F-A618-E80F977F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00C-85B4-4DB1-B757-896C48AF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C51-B60F-40E3-9D6F-D8C0B4D3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B5C-06A5-422E-9B13-1BB4160B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9BE-5945-4C7B-B1B4-E1732922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223-1950-4F9A-85B7-B6F881A4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9571-DE4F-430A-8F77-993BF6F77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Por Zhakeria y Riche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s cl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Mathma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sp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i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038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s Prof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La Abog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Veteri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Dent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Bomb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El Cart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Professor Frink Wallpaper"/>
          <p:cNvPicPr/>
          <p:nvPr/>
        </p:nvPicPr>
        <p:blipFill>
          <a:blip r:embed="rId1"/>
          <a:stretch/>
        </p:blipFill>
        <p:spPr>
          <a:xfrm>
            <a:off x="4876920" y="1981080"/>
            <a:ext cx="3352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40:53Z</dcterms:created>
  <dc:creator>WSFCS Workstation</dc:creator>
  <dc:description/>
  <dc:language>en-US</dc:language>
  <cp:lastModifiedBy>WSFCS Workstation</cp:lastModifiedBy>
  <dcterms:modified xsi:type="dcterms:W3CDTF">2010-04-26T18:56:50Z</dcterms:modified>
  <cp:revision>2</cp:revision>
  <dc:subject/>
  <dc:title>La clase de Espanol</dc:title>
</cp:coreProperties>
</file>